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E2A7-306B-4BCF-9955-CD98D06B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F319-E3D2-461A-A153-4401044F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CF33-98DB-4147-BF43-B6FEC432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0926-8F67-45E7-A205-23514101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16DE-B3BF-4154-BD2B-C773DA9C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E005-7338-499F-A9FF-58085FD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C057-2BD9-4A8F-90A4-DBFE4704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E40F-95B4-4486-9CCC-FDFA445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43B2-9E7A-4E8E-ACAE-0B1F1C9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5B25-0380-4783-B33C-97FCD1FB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322F-B125-4C3F-BB61-8A4C0CD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E5A0-F557-4E7B-A660-D5E97695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1B2-6B12-4B2E-BA78-B9B85AE540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Arial"/>
                <a:ea typeface="MS PGothic"/>
              </a:rPr>
              <a:t>Glory Mountain Ski Area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4920" y="3733560"/>
            <a:ext cx="6324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8d8c"/>
                </a:solidFill>
                <a:latin typeface="Arial"/>
                <a:ea typeface="MS PGothic"/>
              </a:rPr>
              <a:t>Case Solu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B768-26EB-456C-90E6-DFF2561E5A10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5: Glory Kid</a:t>
            </a:r>
            <a:r>
              <a:rPr b="0" lang="ja-JP" sz="3200" spc="-1" strike="noStrike">
                <a:solidFill>
                  <a:srgbClr val="675e47"/>
                </a:solidFill>
                <a:latin typeface="Arial"/>
                <a:ea typeface="MS PGothic"/>
              </a:rPr>
              <a:t>’</a:t>
            </a: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s Center</a:t>
            </a:r>
            <a:br>
              <a:rPr sz="3200"/>
            </a:b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Special Purpose Budget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5937-87CE-4CB0-A806-1DD3CC89FF95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752480" y="1967040"/>
          <a:ext cx="548640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67040"/>
                    <a:ext cx="548640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6: Revised Budget </a:t>
            </a:r>
            <a:br>
              <a:rPr sz="3200"/>
            </a:b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Additional Input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FC61-3559-4DA1-8FBC-9DB8E3462AF7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1600200" y="2057400"/>
          <a:ext cx="6019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6019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1600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Q6: </a:t>
            </a:r>
            <a:br>
              <a:rPr sz="2800"/>
            </a:b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Revised </a:t>
            </a:r>
            <a:br>
              <a:rPr sz="2800"/>
            </a:b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Budge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27E2-D479-4918-A04D-8CDAF14A3EB9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057400" y="380880"/>
          <a:ext cx="6408720" cy="59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0880"/>
                    <a:ext cx="6408720" cy="59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7: Variance Analysi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A10-92CF-4F03-A66B-A6568C21B88D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380880" y="1371600"/>
          <a:ext cx="793296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793296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5"/>
          <p:cNvSpPr/>
          <p:nvPr/>
        </p:nvSpPr>
        <p:spPr>
          <a:xfrm>
            <a:off x="807120" y="5819760"/>
            <a:ext cx="25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</a:rPr>
              <a:t>Note: Changed Number Shown in Bold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1: Flexible Budget- Input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6E02-B234-4CD5-ADD6-4AD9A4107158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49" name="Object 8"/>
          <p:cNvGraphicFramePr/>
          <p:nvPr/>
        </p:nvGraphicFramePr>
        <p:xfrm>
          <a:off x="762120" y="1523880"/>
          <a:ext cx="7619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19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0840" y="2057400"/>
            <a:ext cx="20574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Q1: Flexible Budge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A59-17E3-4A2A-8758-1ABA98D02D56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981080" y="380880"/>
          <a:ext cx="6400800" cy="57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880"/>
                    <a:ext cx="640080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266760"/>
            <a:ext cx="70106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2: Wind Turbine (NPV)</a:t>
            </a:r>
            <a:br>
              <a:rPr sz="3200"/>
            </a:b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Should the State install the turbine?</a:t>
            </a:r>
            <a:br>
              <a:rPr sz="2800"/>
            </a:b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9A0-1C12-475D-BD5A-622F41885B62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5638680" y="1828800"/>
            <a:ext cx="3505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295280" y="1909800"/>
          <a:ext cx="6553440" cy="37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9800"/>
                    <a:ext cx="6553440" cy="37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3: Snowmaking </a:t>
            </a:r>
            <a:br>
              <a:rPr sz="3200"/>
            </a:b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Step 1: Find Net Present Cos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9E4-8505-4848-BD48-098E50CDD0FA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143000" y="16002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0" y="510228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67" name="Object 1"/>
          <p:cNvGraphicFramePr/>
          <p:nvPr/>
        </p:nvGraphicFramePr>
        <p:xfrm>
          <a:off x="1143000" y="1752480"/>
          <a:ext cx="72388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2388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3: Snowmaking </a:t>
            </a:r>
            <a:br>
              <a:rPr sz="3600"/>
            </a:b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Step 2: Find the Annualized Cost.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499-28D3-4EFC-9EF2-D972381DB990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1066680" y="1600200"/>
            <a:ext cx="7467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990720" y="5102280"/>
            <a:ext cx="71625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5e47"/>
                </a:solidFill>
                <a:latin typeface="Arial"/>
              </a:rPr>
              <a:t>Which snowmaking system they choose?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74" name="Object 1"/>
          <p:cNvGraphicFramePr/>
          <p:nvPr/>
        </p:nvGraphicFramePr>
        <p:xfrm>
          <a:off x="1266840" y="2133720"/>
          <a:ext cx="673416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2133720"/>
                    <a:ext cx="6734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Q4: Glory Kid's Center </a:t>
            </a:r>
            <a:br>
              <a:rPr sz="2800"/>
            </a:br>
            <a:r>
              <a:rPr b="0" lang="en-US" sz="2800" spc="-1" strike="noStrike">
                <a:solidFill>
                  <a:srgbClr val="675e47"/>
                </a:solidFill>
                <a:latin typeface="Arial"/>
                <a:ea typeface="MS PGothic"/>
              </a:rPr>
              <a:t>Break Even Quantity Input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F4F-28EB-470F-B362-7BCC3DA7C987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1371600" y="1828800"/>
          <a:ext cx="6553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553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B832-A77B-4313-8B9A-05C7D2F04B18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388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</a:rPr>
              <a:t>Q4:</a:t>
            </a:r>
            <a:r>
              <a:rPr b="0" lang="en-US" sz="2800" spc="-1" strike="noStrike">
                <a:solidFill>
                  <a:srgbClr val="675e4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75e47"/>
                </a:solidFill>
                <a:latin typeface="Arial"/>
              </a:rPr>
              <a:t>Glory Kid's Center </a:t>
            </a:r>
            <a:endParaRPr b="0" lang="en-US" sz="3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</a:rPr>
              <a:t>Break Even Quantity</a:t>
            </a:r>
            <a:endParaRPr b="0" lang="en-US" sz="32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1371600" y="3657600"/>
          <a:ext cx="67816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6781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4"/>
          <p:cNvGraphicFramePr/>
          <p:nvPr/>
        </p:nvGraphicFramePr>
        <p:xfrm>
          <a:off x="2057400" y="1717560"/>
          <a:ext cx="5410080" cy="17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717560"/>
                    <a:ext cx="541008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Q5: Glory Kid</a:t>
            </a:r>
            <a:r>
              <a:rPr b="0" lang="ja-JP" sz="3200" spc="-1" strike="noStrike">
                <a:solidFill>
                  <a:srgbClr val="675e47"/>
                </a:solidFill>
                <a:latin typeface="Arial"/>
                <a:ea typeface="MS PGothic"/>
              </a:rPr>
              <a:t>’</a:t>
            </a: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s Center</a:t>
            </a:r>
            <a:br>
              <a:rPr sz="3200"/>
            </a:br>
            <a:r>
              <a:rPr b="0" lang="en-US" sz="3200" spc="-1" strike="noStrike">
                <a:solidFill>
                  <a:srgbClr val="675e47"/>
                </a:solidFill>
                <a:latin typeface="Arial"/>
                <a:ea typeface="MS PGothic"/>
              </a:rPr>
              <a:t>Special Purpose Budget Input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02C7-A1AE-42A6-A483-522A808D9194}" type="slidenum">
              <a:rPr b="0" lang="en-US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1447920" y="2286000"/>
          <a:ext cx="61722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6172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Footer Placeholder 1"/>
          <p:cNvSpPr/>
          <p:nvPr/>
        </p:nvSpPr>
        <p:spPr>
          <a:xfrm>
            <a:off x="457200" y="617220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ncial Management For Public, Health, And Not-For-Profit Organizations, 5th Ed. © Sage CQ 2016    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4:10:40Z</dcterms:created>
  <dc:creator>Steven Finkler</dc:creator>
  <dc:description/>
  <dc:language>en-US</dc:language>
  <cp:lastModifiedBy>Thad Calabrese</cp:lastModifiedBy>
  <cp:lastPrinted>2000-06-19T13:41:49Z</cp:lastPrinted>
  <dcterms:modified xsi:type="dcterms:W3CDTF">2016-01-11T04:19:38Z</dcterms:modified>
  <cp:revision>99</cp:revision>
  <dc:subject/>
  <dc:title>No Slide Title</dc:title>
</cp:coreProperties>
</file>